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3D52-7AC6-4784-B0E2-2BB9D5AB28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27F-00D8-4CB0-984A-FE152F2A41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35FE-84FE-4F8A-8EC5-6079B149CD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3EEA-6A25-454D-93E8-B5F7CD0069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C733-9CA1-4AB6-8EFB-C0326F6E77F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8A79-5AEB-46EB-A06F-838C3253E04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3CAD-1591-4AF5-9885-8DF8DD935E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A45F-2252-4026-AC38-6C2168B0EE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304-983C-4FFC-B4D3-350AD0152F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7D4A-19FD-4C80-8463-6F5B684B02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4596-A050-4492-83CA-EEE40896BB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CCA6-9565-4CB6-A67F-D833869F8A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5676-0AFB-4FB9-8E39-79B9A8CC34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8E19-24B1-47AB-9166-FD2DA9B72E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8B6B-FB0A-4041-8105-0412947559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56BF-172B-4ECE-82E2-B567BF9EFF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12F2-F524-4393-A0D8-89B2DE0528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1C62-8226-487F-BC11-05E438AA3D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7AB9-2384-4F41-80B6-26F1C7F373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D990-C6FC-4622-8336-DAECD45302A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BFC7-C6AD-441D-9380-A93D6401C0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5B34-C15D-4D19-AEB5-013B8CA099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41EA-76A3-48BA-B5F6-BD042D3308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5094-3C83-4CD5-A10E-C5E7A1E778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84F3-686C-465B-982C-FE54415E5F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6219-F326-4DC3-AD4D-E247A3FDF5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537D-C7A9-475D-B5FB-0F8B8FD85D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0212-7E6D-400D-842D-E341D79691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DA02-8518-4E74-B95A-F95445A3B2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5547-EBDE-48B4-ABB9-DAD487DB70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E526-6E9C-4028-86FA-6716369BEB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2A45-C37B-44FC-A34C-8A513898BD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8942-C5F2-44E3-90BA-CE803BF0FB2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A335-9C11-4C36-ACE9-B3B0F2DA50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D813-E196-49AA-B3CF-F44FD08D89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62AA-9AB2-477B-9500-CAC8D51E15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BE22-7A65-4DE6-B654-69540F2E60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20D2-3C8A-4D09-8224-4D90C83CDA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D4F8-F796-42ED-99FD-F350CA9060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965-D867-4EF2-9490-5CDD7081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624-76AC-4467-8316-CB89540F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862-6CB6-46D0-BFBD-6E540C3E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664-D783-40EB-893B-A4E00CC2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BA7-8338-4C14-BC53-80B3CD23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73F-9B48-4C27-8377-5B0015A0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0D1-737D-4196-BDDF-5ED891FE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A56-1157-4D56-A40B-9EE79FF8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468-1061-40B2-A45C-FF2D2EC2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842-CB37-4FFF-9D36-057D59B9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76B-F38B-4C1B-94A2-885F02FA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746-E6C2-4A19-8B56-2A9AA29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338F-E11C-43DF-BE1B-A099C3CF2B3B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ō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이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벌써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맵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味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d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맛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짜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문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요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86920" y="5025600"/>
            <a:ext cx="638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어떤 동작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행동을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鱼香肉丝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01272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xiāng ròusī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위샹러우쓰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宫保鸡丁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12720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gōngbǎo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jīdīng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궁바오지딩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i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별도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고프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wǎn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그릇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米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ǐfàn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쌀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麻婆豆腐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728760"/>
            <a:ext cx="62643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</a:rPr>
              <a:t>mápódòufu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파두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还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sh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하는 편이 좋다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商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shāngdiàn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상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píngguǒ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í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香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iāngjiāo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나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炒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chǎofà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볶음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点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yǒudiǎnr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糖醋里脊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tángcùlǐjǐ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탕추리지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uān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피곤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kù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졸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b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포장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炸酱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5937120"/>
            <a:ext cx="626436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Zhájiàng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miàn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짜장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牛肉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5860800"/>
            <a:ext cx="62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Niúròu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mià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소고기 국수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玉米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578280"/>
            <a:ext cx="62643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Arial"/>
              </a:rPr>
              <a:t>yùmǐtāng</a:t>
            </a:r>
            <a:endParaRPr b="0" lang="en-US" sz="10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옥수수 스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먹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0" y="6728760"/>
            <a:ext cx="6858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</a:rPr>
              <a:t>zhōngguócài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54400"/>
            <a:ext cx="6381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500" spc="-1" strike="noStrike">
                <a:solidFill>
                  <a:srgbClr val="000000"/>
                </a:solidFill>
                <a:latin typeface="Arial"/>
              </a:rPr>
              <a:t>중국요리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主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ǔy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각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ch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맛있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韩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ánguó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한국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7:56:39Z</dcterms:created>
  <dc:creator>System</dc:creator>
  <dc:description/>
  <dc:language>en-US</dc:language>
  <cp:lastModifiedBy>System</cp:lastModifiedBy>
  <dcterms:modified xsi:type="dcterms:W3CDTF">2014-01-28T04:09:47Z</dcterms:modified>
  <cp:revision>9</cp:revision>
  <dc:subject/>
  <dc:title>슬라이드 1</dc:title>
</cp:coreProperties>
</file>